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53C1-6DB3-4235-9297-067E8389A9C0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1: 4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2: 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3: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15% de crecimiento an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Marzo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Encontraron 3 granos sospechosos.  Los mandaron  a dos labs. Uno en Philadelphia y otro en Cincin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os calif fueron designados como culpables. El 18 de Julio se señala a 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enfermedad de las vacas locas (BSE) como consecuencia de convertir a un animal vegetariano en cani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contaminacion de Estrogeno en los empaques plast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Panico a cualquier contaminacion como la causada por la fiebre del pollo en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Residuos toxicos en el cuerpo que no pueden degrad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obesidad:  en los EEUU era de 25% en 1981 y en 2001 es de 35%.  Mata a 300,000 y cuesta $100BB en cuidados med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Vegetarianos.  Como respuesta al riezgo de enfermedades coronarias y cancer el crecimiento del consumo de frutas y vegetales sera muy grande en los años por delante. En 1996 era del 5% en EE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8B51-5B20-4551-835E-1CC091E1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ADD-AF24-4F76-823E-695D8862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40CA-96C2-4576-BB3A-EB63702D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8A8-596A-4149-B188-7035525E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3DF0-9020-4875-9D5E-827243E8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130B-9CA5-4220-9E3C-CC1A5440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BE73-19A1-466C-815C-162D6999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CA09-4F8A-4ABB-978D-F6CC8996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CE66-B304-456E-B5FA-B8C6B9C0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2329-2F29-4F4D-961E-AD7A6D43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9FAC-AE9E-4EC3-8098-0E9A87EB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995-4361-44B7-BFAA-D6594CDF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C2FD-7B88-4589-A015-93C0A9D0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794C-9FDF-4A81-A3F9-BB40AF58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6870-F7D5-4DA6-B464-8FFAC28C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16F9-06CD-442F-814C-7F6B10BC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7222-C9BB-451A-944C-E6EE626A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B58-5D03-41CC-B97B-C376A432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C58A-524F-4AA9-B107-57CD2F7C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BA47-7373-4045-A68F-303EC341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C9FC-3650-4E01-80BF-674EC3D1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449-2FFB-4140-9854-C0340530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B73-983C-4F6D-9C6C-0EC852B4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5C0-67E0-4B5A-80D6-C7638060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2147-CA67-4811-BB39-19DDC1D30DD5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6EF4-23CB-46D7-A9C1-D8AFEDB41D7C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La Calidad en la Agroindust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PE" sz="4000" spc="-1" strike="noStrike">
                <a:solidFill>
                  <a:srgbClr val="40458c"/>
                </a:solidFill>
                <a:latin typeface="Tahoma"/>
              </a:rPr>
              <a:t>Una forma de vida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Juan Rodolfo Wiesner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Gerente Gene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HAC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ISO 900/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ambiental ISO 14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Codex. Higiene de los alimentos. FAO/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UREPG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GMP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F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ENA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86440" y="304920"/>
            <a:ext cx="427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PE" sz="1600" spc="-1" strike="noStrike">
                <a:solidFill>
                  <a:srgbClr val="660066"/>
                </a:solidFill>
                <a:latin typeface="Tahoma"/>
              </a:rPr>
              <a:t>EXPORTACIONES AGRICOLAS PERUAN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280" y="1467000"/>
            <a:ext cx="8991720" cy="5391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EXPORTACIONES AGROPECUARIAS EN PERÚ</a:t>
            </a:r>
            <a:br>
              <a:rPr sz="2400"/>
            </a:b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(Millones US$ FOB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00200" y="1676520"/>
          <a:ext cx="72388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72388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2475000" y="420840"/>
            <a:ext cx="4194000" cy="6018120"/>
            <a:chOff x="2475000" y="420840"/>
            <a:chExt cx="4194000" cy="6018120"/>
          </a:xfrm>
        </p:grpSpPr>
        <p:grpSp>
          <p:nvGrpSpPr>
            <p:cNvPr id="225" name=""/>
            <p:cNvGrpSpPr/>
            <p:nvPr/>
          </p:nvGrpSpPr>
          <p:grpSpPr>
            <a:xfrm>
              <a:off x="2475000" y="420840"/>
              <a:ext cx="4194000" cy="442800"/>
              <a:chOff x="2475000" y="420840"/>
              <a:chExt cx="4194000" cy="442800"/>
            </a:xfrm>
          </p:grpSpPr>
          <p:sp>
            <p:nvSpPr>
              <p:cNvPr id="226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XPORTACIONES DE PRODUCTOS AGRÍCOLAS</a:t>
                </a:r>
                <a:br>
                  <a:rPr sz="1200"/>
                </a:br>
                <a:r>
                  <a:rPr b="1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n miles de dólares FOB.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75000" y="863640"/>
              <a:ext cx="2395440" cy="274680"/>
              <a:chOff x="2475000" y="863640"/>
              <a:chExt cx="2395440" cy="274680"/>
            </a:xfrm>
          </p:grpSpPr>
          <p:sp>
            <p:nvSpPr>
              <p:cNvPr id="229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Product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870440" y="863640"/>
              <a:ext cx="858960" cy="274680"/>
              <a:chOff x="4870440" y="863640"/>
              <a:chExt cx="858960" cy="27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729400" y="863640"/>
              <a:ext cx="939600" cy="274680"/>
              <a:chOff x="5729400" y="863640"/>
              <a:chExt cx="939600" cy="274680"/>
            </a:xfrm>
          </p:grpSpPr>
          <p:sp>
            <p:nvSpPr>
              <p:cNvPr id="235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475000" y="1138320"/>
              <a:ext cx="2395440" cy="274680"/>
              <a:chOff x="2475000" y="1138320"/>
              <a:chExt cx="2395440" cy="274680"/>
            </a:xfrm>
          </p:grpSpPr>
          <p:sp>
            <p:nvSpPr>
              <p:cNvPr id="238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Hortaliz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870440" y="1138320"/>
              <a:ext cx="858960" cy="274680"/>
              <a:chOff x="4870440" y="1138320"/>
              <a:chExt cx="858960" cy="274680"/>
            </a:xfrm>
          </p:grpSpPr>
          <p:sp>
            <p:nvSpPr>
              <p:cNvPr id="241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1.914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729400" y="1138320"/>
              <a:ext cx="939600" cy="274680"/>
              <a:chOff x="5729400" y="1138320"/>
              <a:chExt cx="939600" cy="274680"/>
            </a:xfrm>
          </p:grpSpPr>
          <p:sp>
            <p:nvSpPr>
              <p:cNvPr id="244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4.623</a:t>
                </a:r>
                <a:r>
                  <a:rPr b="0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(1)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475000" y="1413000"/>
              <a:ext cx="2395440" cy="1735200"/>
              <a:chOff x="2475000" y="1413000"/>
              <a:chExt cx="2395440" cy="1735200"/>
            </a:xfrm>
          </p:grpSpPr>
          <p:sp>
            <p:nvSpPr>
              <p:cNvPr id="247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rut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Fresc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g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servadas provisionalment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fit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erm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En conserv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Deshidratad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70440" y="1413000"/>
              <a:ext cx="858960" cy="1735200"/>
              <a:chOff x="4870440" y="1413000"/>
              <a:chExt cx="858960" cy="1735200"/>
            </a:xfrm>
          </p:grpSpPr>
          <p:sp>
            <p:nvSpPr>
              <p:cNvPr id="250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02.39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345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4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.3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.5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6.10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660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729400" y="1413000"/>
              <a:ext cx="939600" cy="1735200"/>
              <a:chOff x="5729400" y="1413000"/>
              <a:chExt cx="939600" cy="1735200"/>
            </a:xfrm>
          </p:grpSpPr>
          <p:sp>
            <p:nvSpPr>
              <p:cNvPr id="253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580.67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291.93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3.9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18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0.334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8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6.1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428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475000" y="3148200"/>
              <a:ext cx="2395440" cy="274680"/>
              <a:chOff x="2475000" y="3148200"/>
              <a:chExt cx="239544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ereal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70440" y="3148200"/>
              <a:ext cx="858960" cy="274680"/>
              <a:chOff x="4870440" y="3148200"/>
              <a:chExt cx="858960" cy="274680"/>
            </a:xfrm>
          </p:grpSpPr>
          <p:sp>
            <p:nvSpPr>
              <p:cNvPr id="259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00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729400" y="3148200"/>
              <a:ext cx="939600" cy="274680"/>
              <a:chOff x="5729400" y="3148200"/>
              <a:chExt cx="939600" cy="274680"/>
            </a:xfrm>
          </p:grpSpPr>
          <p:sp>
            <p:nvSpPr>
              <p:cNvPr id="262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659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75000" y="3422880"/>
              <a:ext cx="2395440" cy="274680"/>
              <a:chOff x="2475000" y="3422880"/>
              <a:chExt cx="2395440" cy="274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Legumbr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870440" y="3422880"/>
              <a:ext cx="858960" cy="274680"/>
              <a:chOff x="4870440" y="3422880"/>
              <a:chExt cx="858960" cy="274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.91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729400" y="3422880"/>
              <a:ext cx="939600" cy="274680"/>
              <a:chOff x="5729400" y="3422880"/>
              <a:chExt cx="939600" cy="274680"/>
            </a:xfrm>
          </p:grpSpPr>
          <p:sp>
            <p:nvSpPr>
              <p:cNvPr id="271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48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475000" y="3697560"/>
              <a:ext cx="2395440" cy="274680"/>
              <a:chOff x="2475000" y="3697560"/>
              <a:chExt cx="2395440" cy="274680"/>
            </a:xfrm>
          </p:grpSpPr>
          <p:sp>
            <p:nvSpPr>
              <p:cNvPr id="274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emill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870440" y="3697560"/>
              <a:ext cx="858960" cy="274680"/>
              <a:chOff x="4870440" y="3697560"/>
              <a:chExt cx="858960" cy="274680"/>
            </a:xfrm>
          </p:grpSpPr>
          <p:sp>
            <p:nvSpPr>
              <p:cNvPr id="277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7.72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729400" y="3697560"/>
              <a:ext cx="939600" cy="274680"/>
              <a:chOff x="5729400" y="3697560"/>
              <a:chExt cx="939600" cy="274680"/>
            </a:xfrm>
          </p:grpSpPr>
          <p:sp>
            <p:nvSpPr>
              <p:cNvPr id="280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03.97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475000" y="3972240"/>
              <a:ext cx="2395440" cy="1734840"/>
              <a:chOff x="2475000" y="3972240"/>
              <a:chExt cx="2395440" cy="1734840"/>
            </a:xfrm>
          </p:grpSpPr>
          <p:sp>
            <p:nvSpPr>
              <p:cNvPr id="283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Otros product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oseta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de remolach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aramel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hocolate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Pastas alimentici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Tabac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alta, incluso tostad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 en polv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Vino embotellado y a grane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870440" y="3972240"/>
              <a:ext cx="858960" cy="1734840"/>
              <a:chOff x="4870440" y="3972240"/>
              <a:chExt cx="858960" cy="1734840"/>
            </a:xfrm>
          </p:grpSpPr>
          <p:sp>
            <p:nvSpPr>
              <p:cNvPr id="286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69.15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4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4.37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95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7.20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.51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3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9.16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94.06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729400" y="3972240"/>
              <a:ext cx="939600" cy="1734840"/>
              <a:chOff x="5729400" y="3972240"/>
              <a:chExt cx="939600" cy="173484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8.09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5.92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7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35.0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.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97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16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23.913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475000" y="5707080"/>
              <a:ext cx="2395440" cy="274680"/>
              <a:chOff x="2475000" y="5707080"/>
              <a:chExt cx="2395440" cy="274680"/>
            </a:xfrm>
          </p:grpSpPr>
          <p:sp>
            <p:nvSpPr>
              <p:cNvPr id="292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Tota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870440" y="5707080"/>
              <a:ext cx="858960" cy="274680"/>
              <a:chOff x="4870440" y="5707080"/>
              <a:chExt cx="858960" cy="274680"/>
            </a:xfrm>
          </p:grpSpPr>
          <p:sp>
            <p:nvSpPr>
              <p:cNvPr id="295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91.11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729400" y="5707080"/>
              <a:ext cx="939600" cy="274680"/>
              <a:chOff x="5729400" y="5707080"/>
              <a:chExt cx="939600" cy="274680"/>
            </a:xfrm>
          </p:grpSpPr>
          <p:sp>
            <p:nvSpPr>
              <p:cNvPr id="298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06.50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475000" y="5981760"/>
              <a:ext cx="4194000" cy="457200"/>
              <a:chOff x="2475000" y="5981760"/>
              <a:chExt cx="4194000" cy="457200"/>
            </a:xfrm>
          </p:grpSpPr>
          <p:sp>
            <p:nvSpPr>
              <p:cNvPr id="301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(1) [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ic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].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uente: Banco Central de Chile.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24480" y="-5911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UVAS CHILENAS CON CIANURO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(Marzo 1989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Perdidas por $240M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0,000 a 50,000 empleos perd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,400 productores a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FDA: La Agencia que nunca pier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38862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FRAMBUESAS DE GUATEMALA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       (Junio 1996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1,465 casos de infección por Cyclospora en EEUU y Canadá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Perdidas en ventas de Fresa de California $20MM a $40M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Se perdio la confianza en un día y toda una vida para recuperar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Hoy solo 5 firmas producen frutilla de las 85 origi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Afecto todas las exportaciones del paí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809880" y="53341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EL MUNDO ACTUA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La población actual es de 6 billones y será de 8 billones en el 202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95% de este crecimiento será en países pob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60% de la población mundial vive con US$ 2 a día o men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Un billón de personas no saben leer ni escrib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840 millones tienen hamb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concepto religioso y tribal será una gran fuerza domina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Terrorismo será una forma común de vida en muchos paí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40458c"/>
                </a:solidFill>
                <a:latin typeface="Tahoma"/>
              </a:rPr>
              <a:t>Por todo esto el Mundo se caracterizara por grandes conflictos.  Será un Mundo de intolerancia y extremismo 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7162920" y="22860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LA ALIMENTACIÓN EN NUESTROS  MERCADOS DE EXPORTACIÓ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Cada día la neurosis será mayor. Los reclamos por alimentos y bebidas crecerá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Residuos Tóxicos en la sang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La obesida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Incremento en el consumo de frutas y vege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Será proveída por las grandes Cadenas de Supermerc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6576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imes New Roman"/>
              </a:rPr>
              <a:t>Ventas Camposol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76520"/>
          <a:ext cx="9220320" cy="55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922032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534160" y="182880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5:28:25Z</dcterms:created>
  <dc:creator>Juan Rodolfo Wiesner</dc:creator>
  <dc:description/>
  <dc:language>en-US</dc:language>
  <cp:lastModifiedBy>jore</cp:lastModifiedBy>
  <dcterms:modified xsi:type="dcterms:W3CDTF">2004-04-30T17:16:32Z</dcterms:modified>
  <cp:revision>24</cp:revision>
  <dc:subject/>
  <dc:title>Presentación de PowerPoint</dc:title>
</cp:coreProperties>
</file>